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CE1-1FD6-4061-A796-DBAC7892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F0E-E86A-4C44-809A-24DE4DD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C03-2F34-47DD-9505-F168D5DB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7E1-E26A-45E3-9DCC-7CFE7C75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8CD-0F32-4338-B2D4-5A5CFD60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9B7-36FB-481A-9C6E-C5575BF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3C4-B46A-4D01-80D2-972B6801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AB4-5561-496A-921D-6FB1B75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4DC-E8F8-452D-BAF6-B7AAC2D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DB5-FE47-4BD6-B8DC-49BCCC3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9F2-0278-4D55-8A8E-9414D96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FF7-E21A-41EE-8337-BD3ED84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912D-35DF-4857-9D31-91F899AA6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5720" y="3038400"/>
            <a:ext cx="8439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900ff"/>
                </a:solidFill>
                <a:latin typeface="Arial"/>
              </a:rPr>
              <a:t>Haiti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: Katelin Br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606840" cy="27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1160" y="5181480"/>
            <a:ext cx="3865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8761d"/>
                </a:solidFill>
                <a:latin typeface="Arial"/>
              </a:rPr>
              <a:t>Historical Even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3c4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47d"/>
                </a:solidFill>
                <a:latin typeface="Verdana"/>
              </a:rPr>
              <a:t>The hemisphere's second Republic is declared on January 1, 1804 by General Jean-Jacques Dessalines. Haiti, or Ayiti in Creole, is the name given to the land by the former Taino-Arawak peoples, meaning "mountainous country."</a:t>
            </a:r>
            <a:r>
              <a:rPr b="0" lang="en-US" sz="2400" spc="-1" strike="noStrike">
                <a:solidFill>
                  <a:srgbClr val="93c47d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60640" y="3657600"/>
            <a:ext cx="37911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9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Arial"/>
              </a:rPr>
              <a:t>Sites In Haiti!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3600" y="4165560"/>
            <a:ext cx="8421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n Haiti you know that there is probably almost NO amusement parks or anything because they are trying to pay and arrange all the damage that happened from the earthquake!!!???:(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hese are two kids on swings and in the background you can see one or two rides!!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520" y="295200"/>
            <a:ext cx="965376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00"/>
                </a:solidFill>
                <a:latin typeface="Arial"/>
              </a:rPr>
              <a:t>Haiti's Earthquak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360" y="5181480"/>
            <a:ext cx="9534600" cy="22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Haiti's earthquake did massive destr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e earthquake was 7.0 in magnitude and many lives were g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Please if you can everyday donate just 25 cents to $1.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at's all they need....Thank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520" y="295200"/>
            <a:ext cx="96537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en-US" sz="6400" spc="-1" strike="noStrike">
                <a:solidFill>
                  <a:srgbClr val="9900ff"/>
                </a:solidFill>
                <a:latin typeface="Arial"/>
              </a:rPr>
              <a:t>Thank You For Watching</a:t>
            </a:r>
            <a:br>
              <a:rPr sz="6400"/>
            </a:br>
            <a:r>
              <a:rPr b="0" lang="en-US" sz="6400" spc="-1" strike="noStrike">
                <a:solidFill>
                  <a:srgbClr val="ff00ff"/>
                </a:solidFill>
                <a:latin typeface="Arial"/>
              </a:rPr>
              <a:t>By Katelin Brito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520" y="1822320"/>
            <a:ext cx="9653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Please Clic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87640" y="34290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Capital and Population of Hait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58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5818e"/>
                </a:solidFill>
                <a:latin typeface="Arial"/>
              </a:rPr>
              <a:t>Haiti's capital is Port-au-Pri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58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5818e"/>
                </a:solidFill>
                <a:latin typeface="Arial"/>
              </a:rPr>
              <a:t>The population of Haiti is 9,993,24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15920" y="2844720"/>
            <a:ext cx="6667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W.E.B Dubo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6aa8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aa84f"/>
                </a:solidFill>
                <a:latin typeface="Arial"/>
              </a:rPr>
              <a:t>W.E.B Dubois was a famous american Civil Rights Leader whose parents migrated from Hai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7720" y="3048120"/>
            <a:ext cx="2904840" cy="400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10824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9400" y="297000"/>
            <a:ext cx="96598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Form Of Government &amp; The Current Lea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Haiti's form of government is semi-presidential system, Parliamentary republic, and Presidential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Haiti's current leader is Michel Martelly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30320" y="3454560"/>
            <a:ext cx="57009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Haiti's major ex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69138"/>
                </a:solidFill>
                <a:latin typeface="Arial"/>
              </a:rPr>
              <a:t>Two of Haiti's major exports are coffee, and coco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69138"/>
                </a:solidFill>
                <a:latin typeface="Arial"/>
              </a:rPr>
              <a:t>Some other major exports are Sisal, Sugar, and Bauxi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251160"/>
            <a:ext cx="3632400" cy="321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78440" y="3251160"/>
            <a:ext cx="4173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Haiti's Major Relig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d8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d85c6"/>
                </a:solidFill>
                <a:latin typeface="Arial"/>
              </a:rPr>
              <a:t>Haiti's major religions is Roman Catholic, and Protest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4078440" cy="38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2844720"/>
            <a:ext cx="48909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ff"/>
                </a:solidFill>
                <a:latin typeface="Arial"/>
              </a:rPr>
              <a:t>Holid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a64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Haiti's most important holiday is Independence Day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a64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Independence Day is celebrated on January 1 because it is to remember   </a:t>
            </a:r>
            <a:r>
              <a:rPr b="0" lang="en-US" sz="2700" spc="-1" strike="noStrike">
                <a:solidFill>
                  <a:srgbClr val="a64d79"/>
                </a:solidFill>
                <a:latin typeface="Verdana"/>
              </a:rPr>
              <a:t>the day in 1804 </a:t>
            </a: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when Jean Jacques Dessalines made a declaration of independence and restored the country's original name Hai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4581360" cy="33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4240" y="3962520"/>
            <a:ext cx="40291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ff"/>
                </a:solidFill>
                <a:latin typeface="Arial"/>
              </a:rPr>
              <a:t>Curr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674e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Haiti's currency is Gour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674e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The exchange rate per U.S. dollar is 38.50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" y="3355920"/>
            <a:ext cx="4911840" cy="317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92840" y="3352680"/>
            <a:ext cx="3414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Haiti's National Anthe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3600" y="1101240"/>
            <a:ext cx="701208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35000" y="2271600"/>
            <a:ext cx="7304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